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FD61-CDF4-4519-8281-C0403D01D9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1B9A-4B97-4D40-B934-51DFF539DF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2. Быть преданным добру и собственному дух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3. Признать свою нечестность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0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6EFB-76A1-4D8C-BF1E-5AF0FDD428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. Эмоционально ставить себя на место других, научиться понимать их и быть терпимы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5. Контролировать негативные эмоции и уметь "подставлять другую щеку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200"/>
            </a:br>
            <a:br>
              <a:rPr sz="1200"/>
            </a:br>
            <a:br>
              <a:rPr sz="1100"/>
            </a:b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DB46-D2F7-4DDF-8C98-1C93F12C11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7. Развивать волю и закалять характе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8. Жить в гармонии с Природо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9. Следовать закону "эквивалентного равенства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0. Не доверять первому впечатлению и пытаться найти более глубокую истину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01B9-0F5A-4D24-B6D2-FEBB88FCF3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обходимо вернуться к традиционным ценностям человечества, таким, как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                      Дарио Салас Соммэр                                      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0FD6-9B63-46AF-808D-B9E97E03EF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Важность морали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Единственный выход – изучать законы морали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чищать и воспитывать себя с помощью нашего созн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31A9-54B7-4138-A2C3-1283CDE59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Что такое мораль?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86F3-5F23-40BE-98B8-AC4FCEB0E0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 (Заголовки)"/>
              </a:rPr>
              <a:t>Основы мор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челове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зменчива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бъ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правдывает людски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Фрагмент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граничена рамками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из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праведли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сегда стоит выше эго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Ц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инна в любой точке времени и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2649-703A-4726-BE9E-D1F03EBC07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арио Салас Соммэ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"..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B9F9-9388-4511-9400-35D08D6378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C7A4-7929-40DF-A513-9D6D01A4B7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DACF-195C-48F2-90E0-479FAC476D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Физика 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(φύσις) с древнегреческого языка переводится как 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Природа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 данном случае «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Физика Морали»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есть объяснение 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Природы Морали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и этом под словом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Мораль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то не новый набор искусственных запрещающих правил, а научное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ъяснение механизмов взаимодействия человека и Природы.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F37C-4E6F-4D7A-9866-8D3F1B2C04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«Физика морали»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рио Салас предложил в своей книге </a:t>
            </a: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«Мораль XXI века»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2186-0B71-4075-A7B2-8814DE2F25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F00-1C44-4D9E-9EDD-22DEE533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395-DB97-45DE-B75D-DAE439EE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180-8300-496E-8AB0-2C0B0219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304-8FC9-4097-A047-8FA0B70A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F197-A0C7-4370-8A38-C6C62E31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28BD-F6FE-47CE-8A82-0F6B37A2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7586-DE28-47BC-801C-2A0DCAB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4B77-1177-48D2-B051-1528FF37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095D-DEF5-4319-9CF4-3AE7FA0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6014-04B7-4494-B160-C2DDF2A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19F1-6DB2-4B92-95C5-E42C3F0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F6B-237A-4DF7-A6B6-D7EE3D80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AB6A-49EC-49C0-B271-58E20E2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2456-A215-40A1-A6AE-73B28136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282C-9ED9-4646-B375-AD0E2E85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DB1D-C938-441A-86F3-31DF5F0D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B4CE-A17F-4F78-90FA-349F2843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7659-0A63-4055-9388-A33D167E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B19D-C617-4E19-86E3-A27355EF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19A5-DD8D-4602-B5A3-AE5C43F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6934-FAEE-4DA6-9A43-BCF80B54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A9BC-C982-4840-B9DC-2BEFBBA5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0A6-0AF8-4B99-B084-060509CF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FEE9-CAF9-4FA5-B2F0-37BDEC1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7A33-C423-4364-992A-AFD1148E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6E7F-05BB-4AFE-BD54-2FB86F58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FCAE-225A-459E-9559-F747FB0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5A89-22A3-4D33-BA68-4CBD6E9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9964-17FB-4ECD-919B-19CEC1FF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7E8E-7931-485F-8CC8-1E8F86FD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C1EFB-C458-4AB6-9C56-E5C665F2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BE3AF-F61A-4EC3-99F8-21471B11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5C4A-FC2A-47A6-8EC8-FE81193A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5A3-EFCD-46A2-A7A1-C58BC00E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7D8B-B3E3-412E-B64B-A5836EC0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3E7C8-B0D2-4932-8B21-4377EB8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B7B9-689A-44FC-8B22-8CB106DC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2BF42-273F-4BF1-B836-336284B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3CC40-18BF-4F5B-8896-BCDE4BCE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AD4D-7E4E-4C99-922A-16665E9C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647D-0856-41A1-BA5F-D6C81A36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15B3-55FB-4A60-BF7A-A1BE66C7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E3DF-750B-4C33-AA2A-99DAFE4A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9FDB-FD51-4180-8EB7-763421A4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08D-99CA-47E9-BB2F-1D2D4BA8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FE02-2CF9-431A-9BD7-CE9E105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4E100-F702-4E20-8D7B-33D28829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D50D-452C-46DC-B47E-A4E3900C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704EE-EB00-4668-B726-51815F24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DA333-5102-4EA1-B76F-2E22C8A0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2ABCC-6476-4F38-9DC9-6066D37E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8DD06-8BC8-407B-837F-ED6BEC2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989C-6105-4D5E-B45B-4D2C66D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2F99-0CFE-4D07-A173-C9D66720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C803-AD14-4250-A44C-591975C8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11B-F4EB-4FC0-83DC-CCC9A590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285E9-7C22-49CB-A6F2-9052AFBD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592BB-60CE-4DF9-88E6-4EA990CE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FDC3-7669-4CA0-A302-C655155E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54370-6914-4867-A872-7E13376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615A-BFE1-42C2-AA42-CEC1A1B6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B51B1-14AE-41EE-AFDD-F9D76080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D925A-FD16-494A-9F38-725ADE71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19582-4838-48C6-B077-6EC588DC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6A488-65F2-4D46-B3DF-B0AAF79B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B2AB-034A-4465-914F-8F7F63E3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BB9-9F60-4E6C-9837-77339F15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E4F1D-ED8E-4DC9-AD34-0706E598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CA7BB-2CC2-4705-B51B-106BE3EB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CFE2A-A2F5-4392-B183-1CFCB8DE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A2C7-AC52-4F09-A9FC-259DA8FB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E2BE6-8E34-4114-B975-8D6B3061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A8C5-7AE6-48DB-B1A5-97942A11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440BF-B85B-433E-AD90-6ED23B53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3891F-FB19-49CC-82DF-BBE6DA0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B0822-7618-437F-9E24-A3CD999F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E396-683A-4641-B7E0-37DE16F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A1C-8FD2-42E0-A043-B4DE848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8A9D1-60AE-406F-AEA1-DB3CA2D6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476F8-6B13-4030-AF01-C6D2091E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0BF5-1065-44A2-9D4A-62EE894A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BC1AF-9552-4E0E-8A90-28CD6436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AC57-6D97-47A0-9BC8-814BFF4C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1968B-8EEE-4053-8469-CCD2E162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2FCEA-E8D2-4542-A8A5-A096EA43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22402-7136-470D-B1C4-BFD44A6C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7D40E-672F-439C-8371-81D892CF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2FA9-F6B1-425A-BC59-A82029F3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85D-5458-4727-9ED1-67043E4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66FC-F64E-42CE-843C-656B6CEE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DFE34-7AFC-444E-9AD1-CD7EEC32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6CBBD-339D-456B-8FF4-174EFEC9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587FD-3852-413F-A947-E780D026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CC56C-3DA4-41C6-9433-E61DEEBF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B7818-E19A-4F46-B48B-3581C88D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20CF-A99C-4876-878A-11D90E09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06D6-AD76-484A-8C3F-BECFFABE38F0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2EEE-C4D1-4281-A54E-8BD07F62374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8EDC-C1C9-46F6-BD3C-477864811F5A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7CB-272E-422D-A9B9-6D3EF691CF6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57AA-DD9E-4180-8B56-ADB995A1533E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5A2A-DE0B-4B50-9A8A-A611D4088B9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EA6F-8FEF-4181-A789-49EC0DA1C100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D6E2-7976-4691-9C54-D6BCC23F055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0A90-5C86-42E3-95C3-5195DC0B7D77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459B-2F3C-43E6-B691-B26A0BD0EE6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0C14-F6A7-4F94-A17C-7DA0DD9209F2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8078-4A9E-4E8B-AA4A-4ECC267FD84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BC3F-F6C9-489A-A485-9956975ABA13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36FF-9755-4B19-8A9F-DA0B4C973F8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F4E2-6A26-44F5-8E98-213C47D30028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3771-96EF-47CB-B190-370C4FEA884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699320" cy="19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547640" y="5589720"/>
            <a:ext cx="6264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ndara"/>
              </a:rPr>
              <a:t>«Основы духовно-нравственной культуры народов Росс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2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8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2. Быть преданным добру и собственному духу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3. Признать свою нечестность.</a:t>
            </a:r>
            <a:br>
              <a:rPr sz="1700"/>
            </a:br>
            <a:br>
              <a:rPr sz="17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600"/>
            </a:br>
            <a:br>
              <a:rPr sz="1700"/>
            </a:br>
            <a:br>
              <a:rPr sz="1700"/>
            </a:br>
            <a:br>
              <a:rPr sz="19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7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4. Эмоционально ставить себя на место других, научиться понимать их и быть терпимым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5. Контролировать негативные эмоции и уметь "подставлять другую щеку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900"/>
            </a:br>
            <a:br>
              <a:rPr sz="1900"/>
            </a:br>
            <a:br>
              <a:rPr sz="1700"/>
            </a:b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7640" y="18900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7. Развивать волю и закалять характер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8. Жить в гармонии с Природо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9. Следовать закону "эквивалентного равенства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0. Не доверять первому впечатлению и пытаться найти более глубокую истину. </a:t>
            </a:r>
            <a:br>
              <a:rPr sz="21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6345360" y="551664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5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«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еобходимо вернуться к традиционным ценностям человечества, таким, как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                      Дарио Салас Соммэр                                       </a:t>
            </a: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Важность морали</a:t>
            </a:r>
            <a:br>
              <a:rPr sz="2000"/>
            </a:br>
            <a:br>
              <a:rPr sz="20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Единственный выход – изучать законы морали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,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чищать и воспитывать себя с помощью нашего сознания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Что такое мораль?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 (Заголовки)"/>
              </a:rPr>
              <a:t>Основы морал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2677680"/>
            <a:ext cx="3959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челове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7880" y="3429000"/>
            <a:ext cx="381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ре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зменчивая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убъектив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правдывает людские поро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Фрагментар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граничена рамками планет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7280" y="2677680"/>
            <a:ext cx="4043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Косм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еч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Неиз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праведлив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сегда стоит выше эгоизм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Цель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стинна в любой точке времени и пространст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Дарио Салас Соммэр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"...</a:t>
            </a: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6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6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Физика 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(φύσις) с древнегреческого языка переводится как 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Природа. 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 данном случае «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Физика Морали»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есть объяснение 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Природы Морали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ри этом под словом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Мораль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Это не новый набор искусственных запрещающих правил, а научное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ъяснение механизмов взаимодействия человека и Природы. 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ермин 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«Физика морали»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рио Салас предложил в своей книге </a:t>
            </a:r>
            <a:r>
              <a:rPr b="1" lang="ru-RU" sz="1900" spc="-1" strike="noStrike">
                <a:solidFill>
                  <a:srgbClr val="7f7f7f"/>
                </a:solidFill>
                <a:latin typeface="Candara"/>
              </a:rPr>
              <a:t>«Мораль XXI века»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900"/>
            </a:br>
            <a:br>
              <a:rPr sz="1900"/>
            </a:br>
            <a:br>
              <a:rPr sz="14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LEGION</cp:lastModifiedBy>
  <dcterms:modified xsi:type="dcterms:W3CDTF">2014-11-11T07:57:54Z</dcterms:modified>
  <cp:revision>167</cp:revision>
  <dc:subject/>
  <dc:title>Образовательно-воспитательная программа «Я -гражданин России» как основа воспитательной системы класса</dc:title>
</cp:coreProperties>
</file>